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1A356-A162-4E9F-A23F-1536A8E9C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E27B-742A-44CD-BA09-1EAAEBB2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5C9C8-1422-4700-A781-C53A28986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94F4E-50BC-4D20-B2B0-699947017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DB9535-ED09-4FAD-B5DD-9517CD3A8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F2EC0-D934-4CAA-8BA8-0CFF02A076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A41C3-8E92-4611-AF47-160F3DAC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ABF49-7E78-42FD-ACF4-682A76670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97B89-1A6F-43FA-8964-D47421FDC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D496F-A627-4E64-A713-4BB4CA1626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13FCAD-4EF6-4E54-B32B-71464AEB02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079ECE-A7DE-42C3-A596-A364D5CB85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DE85-04DC-4EFF-A6AB-984083AA6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379EC1-07FF-43E2-8A18-C13DDB1CB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67896-6947-4DB0-8849-B9D8D0F20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4D250-B0B0-4392-8FD8-884A6846D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E1CD5-F6BF-4C31-832A-7720C0FF1E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BE3A79-E425-424D-96DF-E485799B9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A63CC-D750-4E5A-B831-781EF3CAB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13106-18F7-44B0-8BFD-5CDDFB447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9D050-E937-4BBF-8203-DF21668DB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19E8F-C223-4BBD-A9BD-69561621F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511EA-E6F5-4CDF-93EE-749671615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B501F-7E28-4300-ADA5-08407DEAB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83730-E4A2-4B2D-9457-AF15E44A8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003BC8-2E94-49E5-97E7-3C14BC9427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9CC446-7E26-4B3D-AAF2-777F3985C7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43D18-6FF1-48C1-9FDE-15B8BB3FA4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84640-8A4C-409B-9DE0-62D84968B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F3416-7BDA-43DA-9624-422E5BCC3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857BB-1971-46C4-8825-4B20BB0EAA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528A8-6B92-4AE2-8EC9-F0DBF2F66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EFD0C-5246-49AC-9B6A-007412D81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6F820-107F-48BB-A829-C1FC1E69D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4B53A-6F18-4BB2-AF50-EC23A0F3E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FFE2F-B1E0-4245-9255-1AEDC28DDF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C2102D-6860-484D-BA5C-06922ACC0C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813F02-D84F-465D-BB3C-DD6BB8F97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4E608-13A2-4A6A-A3E2-BB7A23A18A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6AD1B4-B047-4757-98FE-D67FEBE85D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4B5464-6033-4CC5-97D6-C95714BFF0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0978A2-EF13-457E-B989-32C2DE4415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06215-9B07-4035-9E31-625DC1C77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74060-0F5C-4C8E-B747-D68E4FBE6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E1F42-4FA2-44AD-85F9-201C28DE3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16270-7E8B-4541-8E3A-4BCBEFC31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64C4B4-949B-4D6B-AE6C-DA6D1F2A3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C3565-EF06-4C07-881B-F8CE6688FF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FACAC-6367-4AB1-9E8D-DB303769B3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659969-8787-4B62-96E4-8DCAACCA11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F7B32B-9251-45FC-A2BE-9CA2B41B05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51FD1-6611-4FBA-902D-C0298D208C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580E59-70B3-43AC-9742-9006893C79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CBB081-04F7-453D-A80E-38108AC2E0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9BF35B-7107-4AFB-A530-509E6FC39C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02676D-C17E-4968-8352-C69BFA5B2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575B9C-E3CC-407A-9E34-0D60A41589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CD31F2-2CDA-4A54-B8B9-3FCB19E581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7569FE-5299-4FAD-A2B2-B8FDB1B1FD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C57422-750A-456C-8088-9D98F696E2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9E8C1C-B99C-4231-9840-928660BB07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3041AB-799E-4E0C-8109-B8CD18AF2C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AA1255-40E0-42EB-86A2-534F2692B0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B7FB3B-847D-424B-93AC-3BA89F306C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31A516-DF2B-478B-B383-63DCC21AD6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7C5913-A7F2-460C-94CE-8101508573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012883-2FCB-4DF5-A73B-DE594DAFCC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A44C9-BC1F-4E31-9D90-ECB4DE7B01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69ED8-567A-4E42-AE79-E6E33FF75B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19B385-0202-4CF6-992C-210E654332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79A4A9-2797-47B4-8884-0A047CCE69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75854D-FD5E-442D-8B89-E0698AFB53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0918A6-5D8A-4A33-88E5-493CB39500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98FF1-9601-43FF-B09A-50D87B50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E59B7-B0F3-42EC-955D-2447598D1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3A91F-3132-44B5-BAE5-E1FB7F522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2D5E7-6709-4E38-B823-04C5E0CFA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A1F91-9CF4-4E0A-B6E3-874CB7377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1CC72-6C2C-4CFA-8088-9FD3257D7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A946-940E-43C6-9FBA-34B5FFAA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1B73D-4AA2-4E6C-BB42-B31BF6F3F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21AF4-883A-4BEC-BE8C-F8FAB2AD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9A89D-2197-4788-8FEC-79EE7F7B3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7D90F-5868-4263-9AC5-527030789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6B15D-82C6-487A-8532-6D8EC3981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B3E9A-BF15-4AC1-88C3-689CD0F2B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940CD-33D9-42B3-BA12-E9197EE8B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6FC97-97C0-422C-A2C7-7DDD89AC4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92936-C55C-42B1-A9B1-53C02D53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D8F1-C9D8-42D5-A8B5-88A5EC395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BB1A8-1425-4462-85B4-FF4732C9E7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94219-63B9-4786-AE97-79D9BA8AE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B31A3-02C3-47A4-8E69-2B470B926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B6CA0-C1C1-4E25-9878-6B30F98CF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7F78B-FE6B-484E-9D75-699C05D62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5C6E4-0111-45A0-8C32-8B239EAE6F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D6FF6-C5DF-4AE8-AD1A-03E1CD379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299FB-5D4F-43F0-A8D3-00379616E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EAFC2-8C8E-42E0-9393-EA9D40BED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3955-6BEB-45AE-954B-7C2EEEF6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10E48-BC74-4850-A0B3-38218B116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E4C130-E2AA-42D8-8845-80D8D671F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B55419-D26B-481E-8202-EE1098610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12ABC-0D22-4825-822C-A081C465AD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5D413-B4BF-4439-8FB3-6B7CC85BF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AAAC8-AF58-4B89-9D2B-DF5950BAA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3008F-60E6-4D18-A1C8-05C188161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02E56-1CED-4694-892B-1ABEC8BCD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A27EB-81E9-4B55-A377-C630DD498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5E538-89C6-424A-AC3E-B6BBE004B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8F76-4A91-4A00-A475-7A541492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DCEA3-BFBB-4F72-84B1-3C96961E0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FCAD6-4896-485A-9F44-2824C01EF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BAAF0-A19B-43F9-A615-F379F7BB9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D8394-F7A4-4127-B22F-0B0660C614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AAEF70-9E8F-4B7A-ACBD-043D84E664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ED63E9-02F6-46A2-B12A-069455150A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C859AF-4AB5-402E-9C19-D5B3313D1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496E3-26BD-43C9-8C1E-CCE6D3BD8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94B45-D818-478E-A9A3-B7176F65D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03BB9-8383-478D-A549-061E8B1AF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4C3A-C361-4924-837B-4A9348E5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17219-4B5E-438E-9224-046AA79E18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4C308-CA64-4728-B6E2-476B19438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60742-AAD4-4E53-A113-E706FFE78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BBBAA-D76C-4DAA-AEB0-E1334DADA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7CC7C-DA76-4405-BC20-86BFC6C87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7AFD5B-4A32-4CF8-ADBD-EAA6DC54D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9CD72-75AE-4B8E-8E82-944AA3238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66C04-5239-429F-9076-6F89621ABB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2787E-CDEF-4C2F-85BA-ADD0D908E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21A07B-8639-405D-85FA-49DD5042F5B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46CB8-2CA8-4B03-82C6-F20D335BB95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9AB44-6950-42CD-B547-A5A218C68B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7E37C-EA1A-4489-AA5F-1DEDA3ED9BD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21DD1-82B5-4990-A2F5-95D406653C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C63E2-8F5A-4E54-887A-5E9304A9B1C4}"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868A6-536D-4C89-8446-01B2F582BA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407A9-A467-47BC-82C0-33F3EFD8575D}"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EA401-C402-40AA-9AE7-EAE6655AE0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3C1A4-B7DC-4750-AD0B-C1814AE937B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B012F-F0D0-4976-9AA2-9AB5A59278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988D9-05E5-48DB-8529-E7D360039817}"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E2789-EF42-40D0-B759-64FAD89BDD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15849-4910-40D7-B3CA-3C9F90B593A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74126-217F-48C7-BE66-1CC6BF6ABB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4237F-8441-4370-8900-48AAE17998E5}"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AC949-C9E7-4170-B17A-BB37C9F74F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5B888-331A-4A53-865C-0B7F3501BFD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AD8F5-7D7B-4341-A918-1B625B7714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7F84A-15CF-4D77-975F-555084E5104B}"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4ECE7-8AE9-4C15-9819-17C8DC0B24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F7D35-5E4B-40BD-841F-ECC6AF2EF511}"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493BF-F1F3-4C14-84A7-2D67C8DC4C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anaging Healthcare</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ncouraging Self-Reliance</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hield</a:t>
            </a:r>
            <a:endParaRPr b="0" lang="en-US" sz="4600" spc="-1" strike="noStrike">
              <a:solidFill>
                <a:srgbClr val="ffffff"/>
              </a:solidFill>
              <a:latin typeface="Arial Rounded MT Bold"/>
            </a:endParaRPr>
          </a:p>
        </p:txBody>
      </p:sp>
      <p:sp>
        <p:nvSpPr>
          <p:cNvPr id="94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ave unable to cover long-term treatment</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ational healthcare insurance scheme</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miums paid with Medisave</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aims made from Medishield cover large bills</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hield covers long-term hospitalisation and treatments like dialysi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hield</a:t>
            </a:r>
            <a:endParaRPr b="0" lang="en-US" sz="4600" spc="-1" strike="noStrike">
              <a:solidFill>
                <a:srgbClr val="ffffff"/>
              </a:solidFill>
              <a:latin typeface="Arial Rounded MT Bold"/>
            </a:endParaRPr>
          </a:p>
        </p:txBody>
      </p:sp>
      <p:sp>
        <p:nvSpPr>
          <p:cNvPr id="94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hield has been expanded over the years</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ample: Eldershield</a:t>
            </a:r>
            <a:endParaRPr b="0" lang="en-US" sz="2200" spc="-1" strike="noStrike">
              <a:solidFill>
                <a:srgbClr val="ffffff"/>
              </a:solidFill>
              <a:latin typeface="Arial Rounded MT Bold"/>
            </a:endParaRPr>
          </a:p>
          <a:p>
            <a:pPr lvl="2" marL="914400" indent="-282600">
              <a:spcAft>
                <a:spcPts val="1001"/>
              </a:spcAft>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For people above 40 years old</a:t>
            </a:r>
            <a:endParaRPr b="0" lang="en-US" sz="2000" spc="-1" strike="noStrike">
              <a:solidFill>
                <a:srgbClr val="ffffff"/>
              </a:solidFill>
              <a:latin typeface="Arial Rounded MT Bold"/>
            </a:endParaRPr>
          </a:p>
          <a:p>
            <a:pPr lvl="2" marL="914400" indent="-282600">
              <a:spcAft>
                <a:spcPts val="1001"/>
              </a:spcAft>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http://bit.ly/cyX8iy (MOH Website)</a:t>
            </a:r>
            <a:endParaRPr b="0"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ncouraging Self-Reliance</a:t>
            </a:r>
            <a:endParaRPr b="0" lang="en-US" sz="4600" spc="-1" strike="noStrike">
              <a:solidFill>
                <a:srgbClr val="ffffff"/>
              </a:solidFill>
              <a:latin typeface="Arial Rounded MT Bold"/>
            </a:endParaRPr>
          </a:p>
        </p:txBody>
      </p:sp>
      <p:sp>
        <p:nvSpPr>
          <p:cNvPr id="946"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 conclusion,</a:t>
            </a:r>
            <a:endParaRPr b="0" lang="en-US" sz="2400" spc="-1" strike="noStrike">
              <a:solidFill>
                <a:srgbClr val="ffffff"/>
              </a:solidFill>
              <a:latin typeface="Arial Rounded MT Bold"/>
            </a:endParaRPr>
          </a:p>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ncouraging self-reliance allows people to pay for their own healthcare and lessen the burden on the government and taxpayers. This allows government to better manage healthcare by directing resources to areas where it is more needed and not have to pour more money than is necessary</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at is Self-Reliance?</a:t>
            </a:r>
            <a:endParaRPr b="0" lang="en-US" sz="4600" spc="-1" strike="noStrike">
              <a:solidFill>
                <a:srgbClr val="ffffff"/>
              </a:solidFill>
              <a:latin typeface="Arial Rounded MT Bold"/>
            </a:endParaRPr>
          </a:p>
        </p:txBody>
      </p:sp>
      <p:sp>
        <p:nvSpPr>
          <p:cNvPr id="92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t relying on other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aving enough resources / money</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Being able to pay for oneself</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t being a burden to others</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spcAft>
                <a:spcPts val="200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y Self-Reliance?</a:t>
            </a:r>
            <a:endParaRPr b="0" lang="en-US" sz="4600" spc="-1" strike="noStrike">
              <a:solidFill>
                <a:srgbClr val="ffffff"/>
              </a:solidFill>
              <a:latin typeface="Arial Rounded MT Bold"/>
            </a:endParaRPr>
          </a:p>
        </p:txBody>
      </p:sp>
      <p:sp>
        <p:nvSpPr>
          <p:cNvPr id="92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essen burden on government</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essen burden on taxpayer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omote responsibility</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re focus on the truly needy</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ncouraging Self-Reliance</a:t>
            </a:r>
            <a:endParaRPr b="0" lang="en-US" sz="4600" spc="-1" strike="noStrike">
              <a:solidFill>
                <a:srgbClr val="ffffff"/>
              </a:solidFill>
              <a:latin typeface="Arial Rounded MT Bold"/>
            </a:endParaRPr>
          </a:p>
        </p:txBody>
      </p:sp>
      <p:sp>
        <p:nvSpPr>
          <p:cNvPr id="929" name=""/>
          <p:cNvSpPr txBox="1"/>
          <p:nvPr/>
        </p:nvSpPr>
        <p:spPr>
          <a:xfrm>
            <a:off x="2101320" y="3908160"/>
            <a:ext cx="5442120" cy="249228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ave</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crtfY1 (MOH Website)</a:t>
            </a:r>
            <a:endParaRPr b="0" lang="en-US" sz="22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fund</a:t>
            </a:r>
            <a:endParaRPr b="0" lang="en-US" sz="24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dlZpdj (MOH Website)</a:t>
            </a:r>
            <a:endParaRPr b="0" lang="en-US" sz="2200" spc="-1" strike="noStrike">
              <a:solidFill>
                <a:srgbClr val="ffffff"/>
              </a:solidFill>
              <a:latin typeface="Arial Rounded MT Bold"/>
            </a:endParaRPr>
          </a:p>
        </p:txBody>
      </p:sp>
      <p:sp>
        <p:nvSpPr>
          <p:cNvPr id="930" name="TextBox 3"/>
          <p:cNvSpPr/>
          <p:nvPr/>
        </p:nvSpPr>
        <p:spPr>
          <a:xfrm>
            <a:off x="930240" y="2975040"/>
            <a:ext cx="771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Rounded MT Bold"/>
              </a:rPr>
              <a:t>There are 2 main means by which the government encourages self-reliance. These ar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art of Central Provident Fund </a:t>
            </a:r>
            <a:r>
              <a:rPr b="0" lang="en-US" sz="1600" spc="-1" strike="noStrike">
                <a:solidFill>
                  <a:srgbClr val="ffffff"/>
                </a:solidFill>
                <a:latin typeface="Arial Rounded MT Bold"/>
              </a:rPr>
              <a:t>(CPF)</a:t>
            </a:r>
            <a:r>
              <a:rPr b="0" lang="en-US" sz="2400" spc="-1" strike="noStrike">
                <a:solidFill>
                  <a:srgbClr val="ffffff"/>
                </a:solidFill>
                <a:latin typeface="Arial Rounded MT Bold"/>
              </a:rPr>
              <a:t> contribution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ney is channeled monthly to Medisave</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r an adult 35 &amp; below, 20% of CPF goes to Medisave</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r more detailed information:</a:t>
            </a:r>
            <a:endParaRPr b="0" lang="en-US" sz="2400" spc="-1" strike="noStrike">
              <a:solidFill>
                <a:srgbClr val="ffffff"/>
              </a:solidFill>
              <a:latin typeface="Arial Rounded MT Bold"/>
            </a:endParaRPr>
          </a:p>
          <a:p>
            <a:pPr lvl="1" marL="631800" indent="-282600">
              <a:spcAft>
                <a:spcPts val="1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hPolr (CPF Websit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sed to pay hospital bill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se of Medisave extended after feedback</a:t>
            </a:r>
            <a:endParaRPr b="0" lang="en-US" sz="24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emotherapy</a:t>
            </a:r>
            <a:endParaRPr b="0" lang="en-US" sz="22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igh blood pressure medication</a:t>
            </a:r>
            <a:endParaRPr b="0" lang="en-US" sz="2200" spc="-1" strike="noStrike">
              <a:solidFill>
                <a:srgbClr val="ffffff"/>
              </a:solidFill>
              <a:latin typeface="Arial Rounded MT Bold"/>
            </a:endParaRPr>
          </a:p>
          <a:p>
            <a:pPr lvl="1" marL="631800" indent="-282600">
              <a:spcAft>
                <a:spcPts val="1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ssisting in conception</a:t>
            </a:r>
            <a:endParaRPr b="0" lang="en-US" sz="2200" spc="-1" strike="noStrike">
              <a:solidFill>
                <a:srgbClr val="ffffff"/>
              </a:solidFill>
              <a:latin typeface="Arial Rounded MT Bold"/>
            </a:endParaRPr>
          </a:p>
          <a:p>
            <a:pPr lvl="1" marL="631800" indent="-282600">
              <a:spcAft>
                <a:spcPts val="1001"/>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IV anti-retroviral drug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6"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re information on use of Medisave</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aTK3K8 (MOH websit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 (Question)</a:t>
            </a:r>
            <a:endParaRPr b="0" lang="en-US" sz="4600" spc="-1" strike="noStrike">
              <a:solidFill>
                <a:srgbClr val="ffffff"/>
              </a:solidFill>
              <a:latin typeface="Arial Rounded MT Bold"/>
            </a:endParaRPr>
          </a:p>
        </p:txBody>
      </p:sp>
      <p:sp>
        <p:nvSpPr>
          <p:cNvPr id="938"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group of Singaporeans may not have Medisave? (There may be more than one) Why?</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40"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th Medisave, healthcare spending is reduced</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poreans can pay for their own bill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althcare becomes a shared responsibility</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t. burden is reduced</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 need to raise taxe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6:49:42Z</dcterms:created>
  <dc:creator>Justin</dc:creator>
  <dc:description/>
  <dc:language>en-US</dc:language>
  <cp:lastModifiedBy>Justin</cp:lastModifiedBy>
  <dcterms:modified xsi:type="dcterms:W3CDTF">2010-11-01T07:56:51Z</dcterms:modified>
  <cp:revision>3</cp:revision>
  <dc:subject/>
  <dc:title>Managing Healthcare</dc:title>
</cp:coreProperties>
</file>